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B7E-4E5A-4640-B147-F6B22EAD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EE8-A3EB-4CC4-B362-D289A9C6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553-748A-4150-A548-0B5439DB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495-4602-45CE-A46B-0A6EC80F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9D28-211E-4EF8-A9D8-E988DD38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D225-3620-42ED-80CF-0164DE94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D6C-8F74-4525-9D31-E16D342A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BD96-96B3-40D7-942F-A0B0C93E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9771-948A-44AE-8A34-1A720FD5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9864-3EE4-47AF-BD1A-3CC339F4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4EAB-5274-4881-824F-AF15D17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AA5-822D-4F73-A46E-0F588B57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64F6-42AA-4E41-8F1D-A1F69E6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8C13-5593-414C-BF5D-88AE150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BAEA-C30C-4012-95C9-2880CC82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E94D-1E86-4FF7-BF46-510D9F94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DE8F-3F74-48C2-9024-946AB5CB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255-CA57-41B3-883F-05A570C4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DD0-AA90-4DFB-9F72-C05E0F51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872-AC70-4ECC-94C8-9E027B2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FE7-3564-4D44-9E4B-DF25489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229-8AC2-4C96-B8DF-2797A43C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B7A-27EE-476C-87B8-D53DF78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F1A-E86E-46E9-8DC1-903BC25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BC6-5AC8-4617-9F07-6FF7AF0D6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3FE3-2B23-40F7-923E-65207D497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Note Guide 7-5 Rates of reaction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2952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 of chemical reactions can vary from instantaneou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s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9051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speed of these reaction rates is usually expressed as the amount of reactant changing per unit of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146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s of chemical reactions related to the properties of atoms, ions and molecu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1240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e show this through a model calle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llisio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50532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dea says the reactions take place when the reactants (atoms, ions, molecules) collide with each other to turn into the product of the reaction. IF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4956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les have enough kinetic energy to do 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If the particles do not have enough energy, the just bounce back 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unchanged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ourse, we have to have a name for the energy required for a reaction to take place:  activation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3623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n reality, the activation energy acts as a barrier the reactants must get over for a reaction to tak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Energy changes in a Reaction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318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4 factors affect reaction rates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21932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usually raising the temp speeds up reactions wh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ing the temp slows them 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7524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temp increases, the kinetic energy of the particles increases, causing more collisions, causing activation energy to be overcome quicker, and alas, products form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666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ent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particles in a given volu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ects the rate at which the reaction occ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32767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more particles crammed in, the more collisions, alas the faster th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cle siz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otal surface area of a solid or liquid reacta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ects the reaction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495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ncrease in surface area increases the amount of the reactant exposed for reaction, which increases the collision frequency, and alas, the reaction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4. </a:t>
            </a:r>
            <a:r>
              <a:rPr b="0" lang="en-US" sz="2000" spc="-1" strike="noStrike" u="sng">
                <a:solidFill>
                  <a:srgbClr val="221304"/>
                </a:solidFill>
                <a:uFillTx/>
                <a:latin typeface="Times New Roman"/>
              </a:rPr>
              <a:t>Catalysts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 (a substance that increases the rate of a reaction without being used up during the reaction.)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6002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 do catalysts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9810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reduce the activation energy barrier, which allows more reactants to have the energy to form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6668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why is the catalyst shown above the yield arr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124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its not part of either the reactant or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6576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talysts are important in many life processes beca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m reactions in our body would not tak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quick enough. (enzy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Effect of a catalyst on activation energy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6294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0:58:14Z</dcterms:created>
  <dc:creator>Farwell Area Schools</dc:creator>
  <dc:description/>
  <dc:language>en-US</dc:language>
  <cp:lastModifiedBy>Customer</cp:lastModifiedBy>
  <dcterms:modified xsi:type="dcterms:W3CDTF">2010-01-25T15:43:47Z</dcterms:modified>
  <cp:revision>6</cp:revision>
  <dc:subject/>
  <dc:title>Note Guide 7-5 Rates of reactions</dc:title>
</cp:coreProperties>
</file>